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915-0B84-4D01-ACD6-9FCC147F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BAA-F654-4B55-A4E1-D694B33A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49D-1859-4346-9F69-99CA3176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AD5-D1EA-4BE3-B25F-0BD304CC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348-548A-4EA5-AD94-9D0FA3C4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5DF-2EE9-43F6-8541-8208BED9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789-598E-44A7-B41D-1A153E82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03F-B0E1-41BA-B068-DAD32673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A8D-226E-4D23-A2ED-6F1E3A80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D21-3056-468D-A27C-155AE2C3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8EF-459F-414B-8C87-5630381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6D5-AEE4-4F61-BDE0-D5E1130C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210-4C76-4DE6-BC3A-84B59743E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 llamo _______________ Clase 6 NH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a fecha es el 28 de septiembre d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ales son algunas reglas para la división de silab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la hoja distribuida en clase y tomar no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Formación de sílab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dividir las palabras en silabas, hay que seguir ciertas reg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-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Dos vocales separadas por una consonante siempre están en diferentes silabas y la consonante va con la vocal que s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wo vowels separated by a consonant are always in different syllables and the consonant goes with the vowel that follows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   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O 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Un poema para ayud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y una consonan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dos vocales est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a le digo “ve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on la otra me v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8862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 am a conson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ween two vowels I’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one a say “lea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the other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52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Mas 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o  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  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        u  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54:22Z</dcterms:created>
  <dc:creator>Helen Zumaeta</dc:creator>
  <dc:description/>
  <dc:language>en-US</dc:language>
  <cp:lastModifiedBy>Helen Zumaeta</cp:lastModifiedBy>
  <dcterms:modified xsi:type="dcterms:W3CDTF">2011-09-28T19:08:33Z</dcterms:modified>
  <cp:revision>6</cp:revision>
  <dc:subject/>
  <dc:title>Me llamo _________ Clase 6 IM La fecha es el 4 de diciembre del 2009</dc:title>
</cp:coreProperties>
</file>